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267D-F1DA-4F72-A62E-1670BE016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3E57-ABDF-4092-BED3-81D37366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8CD2-8F25-4466-B4A0-D22A56B7E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D147-D459-401C-9B8A-1362AE650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57B4-95E1-4E02-B805-58569DCF5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3639-410F-435F-8620-15A09BC21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D9EF-FD9C-45E2-95D2-4303A2B29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82D7-A38C-446C-8E97-65F8A6E36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7FE8-D1F4-4932-8AC9-E0F4C0E4D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463F-05A6-4FEF-B83B-D1D7B673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22E2-3DE9-45A5-8ADE-5E8BB1F8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415A-6F86-42AD-982A-5DB09757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A4723-38CF-49AC-B152-C80BD4346074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56E63-8BC3-4BDE-A3C5-B5ED7531C771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google.com/imgres?imgurl=http://www.tk-online.de/rochelexikon/pics/a06465.004-1_big.jpg&amp;imgrefurl=http://www.tk-online.de/rochelexikon/pics/p06465.004-1.html&amp;usg=__G8ftMXOdjvTpKe8iNhPi409EpKM=&amp;h=287&amp;w=400&amp;sz=39&amp;hl=sr&amp;start=47&amp;itbs=1&amp;tbnid=L6b0kQb9DMjQAM:&amp;tbnh=89&amp;tbnw=124&amp;prev=/images%3Fq%3Dcontusio%26start%3D36%26hl%3Dsr%26sa%3DN%26gbv%3D2%26ndsp%3D18%26tbs%3Disch:1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stetoskop.info/pics/0/820/thumbnails/150x150/epiduralni.jpg&amp;imgrefurl=http://www.stetoskop.info/Epiduralni-hematom-820-c39-sickness.htm&amp;usg=__gj6tchsA4U-5Uts3m5zMk62SvIM=&amp;h=135&amp;w=150&amp;sz=8&amp;hl=sr&amp;start=3&amp;itbs=1&amp;tbnid=LS9V_eKJk7sI4M:&amp;tbnh=86&amp;tbnw=96&amp;prev=/images%3Fq%3Depidurani%2Bhematom%26hl%3Dsr%26sa%3DG%26gbv%3D2%26tbs%3Disch:1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nemlib.cz/web/obrazky/1_33_12_57_37_ostatni/epiduralni_hematom.jpg&amp;imgrefurl=http://www.nemlib.cz/web/index.php%3Fmenu%3D1_33_12_57_37&amp;usg=__s3nn_4bTws5qMT_0dt961SIuT54=&amp;h=200&amp;w=200&amp;sz=52&amp;hl=sr&amp;start=9&amp;itbs=1&amp;tbnid=2rzgkyYap1m6bM:&amp;tbnh=104&amp;tbnw=104&amp;prev=/images%3Fq%3Depidurani%2Bhematom%26hl%3Dsr%26sa%3DG%26gbv%3D2%26tbs%3Disch:1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neurohirurgija.in.rs/new_page_3_files/image008.jpg&amp;imgrefurl=http://www.neurohirurgija.in.rs/new_page_3.htm&amp;usg=__fcgQ8jxYzDE-e0r0KLoX_3gKfIk=&amp;h=320&amp;w=320&amp;sz=12&amp;hl=sr&amp;start=1&amp;itbs=1&amp;tbnid=dcR7On7llAnlEM:&amp;tbnh=118&amp;tbnw=118&amp;prev=/images%3Fq%3Dsubdurani%2Bhematom%26hl%3Dsr%26sa%3DG%26gbv%3D2%26tbs%3Disch:1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imaios.com/var/ezwebin_site/storage/images/clinical-cases/exambank/emergency/thoracic-injuries-subcapsular-hemorrhage-of-liver-pelvic-injury/crane/2426860-1-eng-GB/crane_medium.jpg&amp;imgrefurl=http://www.imaios.com/en/Clinical-cases/Exambank/Emergency/Thoracic-Injuries-Subcapsular-hemorrhage-of-liver-Pelvic-injury&amp;usg=__zWoNOxLW8UVbFwH_WF3UpKzrSUA=&amp;h=166&amp;w=200&amp;sz=9&amp;hl=sr&amp;start=55&amp;itbs=1&amp;tbnid=D1BnPh82baMb-M:&amp;tbnh=86&amp;tbnw=104&amp;prev=/images%3Fq%3Dfractura%2Bcranii%26start%3D54%26hl%3Dsr%26sa%3DN%26gbv%3D2%26ndsp%3D18%26tbs%3Disch:1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raniocerebralne povrede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RANIOCEREBRAL TRAUMA</a:t>
            </a:r>
            <a:br>
              <a:rPr sz="4000"/>
            </a:b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Svetlana Miletic Drakulic, PhD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571720"/>
            <a:ext cx="6400800" cy="66600"/>
          </a:xfrm>
          <a:prstGeom prst="rect">
            <a:avLst/>
          </a:prstGeom>
          <a:noFill/>
          <a:ln w="0">
            <a:noFill/>
          </a:ln>
        </p:spPr>
        <p:txBody>
          <a:bodyPr tIns="20880" bIns="20880"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Calibri"/>
              </a:rPr>
              <a:t>ac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55F44-B15A-49BB-8A26-4C47CAF8A837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1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4DE24-3E66-4800-AEDC-2AEE7F3B0916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mmotio cerebri</a:t>
            </a:r>
            <a:br>
              <a:rPr sz="4000"/>
            </a:b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Cerebral Concus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42560" y="1981080"/>
            <a:ext cx="871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nctional disorder of the brain 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cussion,meaning 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eversible traumatic paralysis of nervous function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 always immediate (not delayed even by seconds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ffects of concussion on brain function may last for a variable time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seconds, minutes, hours, or long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ression of reflexes (falling to the ground if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nding), transient arrest of respiration, a brief period of bradycardia,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fall in blood pressure     (vital and vegetative centers)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mnesia (memoriz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alysis of limbs, swallowing, brainstem reflexes (pyramidal pathway, KN nucle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2B49D-B9B3-459C-B9EB-0AFD307E3D36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92B21-7B80-4B1D-91BB-3CD83C49AEEE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chanism of inj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2860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ll on the se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dden jerk of the head (jerk bica) - the medullary part of the impact in dens epistrop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blow to the head (the direction of the force passes through the brainst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dden change in the momentum of the head; either movement is imparted to the stationary head by a blow or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vement of the head is arrested by a hard, unyielding surfa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se two types of blunt (nonpenetrating) head injury are call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ccelerative and decelerative, respectivel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EB75E-2D57-40BE-8529-466B6644B29F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5698-3150-41BB-B0DD-38056A70F87E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8" descr="ANd9GcRKoRW0YPY_aZDau6UTN4NPC0Y5W781x5ZmjBS42Yha5YoargXhug"/>
          <p:cNvPicPr/>
          <p:nvPr/>
        </p:nvPicPr>
        <p:blipFill>
          <a:blip r:embed="rId1"/>
          <a:stretch/>
        </p:blipFill>
        <p:spPr>
          <a:xfrm>
            <a:off x="5616720" y="0"/>
            <a:ext cx="35272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ces cause axons to stretch or tea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sturbance of consciousness for less than 6 hours = comotio cerebr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f the disorder lasts longer than 6 hours, we are talking about diffuse axonal damage (DAO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generation of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erve fibers that had been stretched or torn by the shear stresses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t up during rotational acceleration of the head (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diffuse axonal</a:t>
            </a:r>
            <a:r>
              <a:rPr b="0" i="1" lang="sr-Latn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injury)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Calibri"/>
              </a:rPr>
              <a:t>examina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FFC97-7763-4B38-96DE-6DDDCA8B5D04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9940F-4D1F-4F50-B2B9-E19B1D42FF26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838080" y="1752480"/>
            <a:ext cx="464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6"/>
          <p:cNvSpPr/>
          <p:nvPr/>
        </p:nvSpPr>
        <p:spPr>
          <a:xfrm>
            <a:off x="609480" y="27432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AutoShape 9"/>
          <p:cNvCxnSpPr>
            <a:stCxn id="98" idx="0"/>
            <a:endCxn id="98" idx="0"/>
          </p:cNvCxnSpPr>
          <p:nvPr/>
        </p:nvCxnSpPr>
        <p:spPr>
          <a:xfrm>
            <a:off x="609120" y="27428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0" name="AutoShape 10"/>
          <p:cNvSpPr/>
          <p:nvPr/>
        </p:nvSpPr>
        <p:spPr>
          <a:xfrm>
            <a:off x="3429000" y="2819520"/>
            <a:ext cx="4856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11"/>
          <p:cNvSpPr/>
          <p:nvPr/>
        </p:nvSpPr>
        <p:spPr>
          <a:xfrm>
            <a:off x="4876920" y="2743200"/>
            <a:ext cx="48564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3352680" y="2278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429000" y="1828800"/>
            <a:ext cx="2367000" cy="8254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ss of consciousnes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4"/>
          <p:cNvSpPr/>
          <p:nvPr/>
        </p:nvSpPr>
        <p:spPr>
          <a:xfrm>
            <a:off x="0" y="3089160"/>
            <a:ext cx="3276720" cy="459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rograde amnesi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5562720" y="3200400"/>
            <a:ext cx="3581280" cy="459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terograde amnesi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609480" y="5021280"/>
            <a:ext cx="8001000" cy="8254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usea, vomiting, fluctuating blood pressure, tremors, headache, feeling cold, hot, weakness, apath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2895480" y="6248520"/>
            <a:ext cx="46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ke data from other pers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Injury severity according to anterograde amnesia and coma leng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7CD0B-130A-4A91-9B5F-035FC641F850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891F8-E600-4458-9DE7-A077E469AADB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714240" y="2857680"/>
            <a:ext cx="3733920" cy="3781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nor Injury 75%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anterograde amnesia up to 24 hou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Impairment of consciousness for up to 20 minut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GSK 13-1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Absence of CT finding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4714920" y="2928960"/>
            <a:ext cx="4114800" cy="3416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rious injur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anterograde amnesia over 24 hou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Coma for more than 6 hou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GSC less than 1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CT (organic brain damage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ffuse axonal dam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a for over 6 ho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T and 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MR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esults were norm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ive axon damage by tearing and stretching (pons, midbrain, c. calosuma, c. intern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onsequences are either a vegetative state or a disorder of attention and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B3AF3-A4E6-4843-93C0-2262C76A47BE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C2D78-0FB9-47D9-95BD-8AD7114EC40D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rain ede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on after any inju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does not correlate with the severity of the inju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usually develops after 24 to 48 ho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ildren are especially pr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F2FBD-D545-40FF-BABF-361C84B88437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BA73D-5C97-443F-89CC-F158F461B3BA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ntusio cerebr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contusions </a:t>
            </a:r>
            <a:r>
              <a:rPr b="0" i="1" lang="sr-Latn-RS" sz="40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chanism of inju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. Impact of an object on the skull that is at re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contusion at the point of impact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. by the impact of the moving skull on a solid surfa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in the place of injury and positive pressure, a smaller contusion focus, on the opposite side, negative pressure, a larger focu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contre-coup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jority of patients who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main in coma for more than 24 h after a head injury are found to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ave intracerebral hematom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 these lesions, the most important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re contusions of the surface of the brain beneath the point of impact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oup lesion) and the more extensive lacerations and contusions</a:t>
            </a:r>
            <a:r>
              <a:rPr b="0" i="1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the side opposite the site of impact 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ontrecoup lesion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C72D2-F243-485E-9371-D03873CAA324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DEA18-F1C8-4FE7-8A12-8F330ED04F1F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8" descr="ANd9GcQ1pOVaZc9SLDWLCD5RBWNj9HqiE0NotZ1mP0_-9zllcu7ooyyw"/>
          <p:cNvPicPr/>
          <p:nvPr/>
        </p:nvPicPr>
        <p:blipFill>
          <a:blip r:embed="rId1"/>
          <a:stretch/>
        </p:blipFill>
        <p:spPr>
          <a:xfrm>
            <a:off x="6143760" y="1071720"/>
            <a:ext cx="2666880" cy="140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685800" y="1428840"/>
            <a:ext cx="777240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effects of bruises, lacerations, hemorrhages, localized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wellings, white matter necroses, and herniations of tissue 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at occur 12 to 72 h or more aft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On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T scan of the brain - finding of a contusion scar the contusions appear as edematous regions of cortex and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ubcortical white matter admixed with areas of increased density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presenting leaked blood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eurological examination-focal outburs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mpaired consciousness, bradycardia with hyper and then hypotens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216FD-2561-46B3-80DB-C73BA4866825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50EE5-FDD6-4D35-AE08-0196D861ED5E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brain_injury"/>
          <p:cNvPicPr/>
          <p:nvPr/>
        </p:nvPicPr>
        <p:blipFill>
          <a:blip r:embed="rId2"/>
          <a:stretch/>
        </p:blipFill>
        <p:spPr>
          <a:xfrm>
            <a:off x="1692360" y="1413000"/>
            <a:ext cx="56163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ANIOCEREBRAL TRAU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tiologically, they belong to non-progressive neurological disorders caused by a single effect of an etiological factor (mechanical traum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3411D-ACBA-42F6-9D26-F773E52AA4ED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B9E6F-B986-4A12-A23F-5D62650424E7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87480" y="46080"/>
            <a:ext cx="121896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0"/>
          <p:cNvSpPr/>
          <p:nvPr/>
        </p:nvSpPr>
        <p:spPr>
          <a:xfrm>
            <a:off x="87480" y="46080"/>
            <a:ext cx="121896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2"/>
          <p:cNvSpPr/>
          <p:nvPr/>
        </p:nvSpPr>
        <p:spPr>
          <a:xfrm>
            <a:off x="87480" y="46080"/>
            <a:ext cx="121896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4"/>
          <p:cNvSpPr/>
          <p:nvPr/>
        </p:nvSpPr>
        <p:spPr>
          <a:xfrm>
            <a:off x="87480" y="46080"/>
            <a:ext cx="121896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a0646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124000" y="1628640"/>
            <a:ext cx="45370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l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50920" y="1981080"/>
            <a:ext cx="388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arachnoid hemorrh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picdural and subdural hematom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acerebral blee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7" descr="1"/>
          <p:cNvPicPr/>
          <p:nvPr/>
        </p:nvPicPr>
        <p:blipFill>
          <a:blip r:embed="rId1"/>
          <a:stretch/>
        </p:blipFill>
        <p:spPr>
          <a:xfrm>
            <a:off x="4284720" y="2421000"/>
            <a:ext cx="39607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umatic intracranial blee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cute Epidural Hemorrh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cute</a:t>
            </a:r>
            <a:r>
              <a:rPr b="1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bdural</a:t>
            </a:r>
            <a:r>
              <a:rPr b="1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ematom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ronic Subdural</a:t>
            </a:r>
            <a:r>
              <a:rPr b="1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ematom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42410-C655-4FDA-868D-882D3F2B8901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1A08F-A1AB-471A-96C3-302C1D4B0257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cute Epidural Hemorrh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5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arises with a temporal or parietal fracture and laceration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the middle meningeal arte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acture of the temporal and parietal b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matoma grows rapidly, compresses brain tissue (Hutchinson's pupi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urological signs1h – 24h lucid peri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increase in intracranial pres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Focal neurological outbrea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14174-EEB7-49E1-BC5D-6BEFF6A6C3F6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9870C-DEA2-4343-97E8-416E855A144C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pidural hemato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4500360"/>
            <a:ext cx="7772400" cy="15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A626A-E17A-4F07-A0D9-7D4087516649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A4993-AD68-4E4C-B8D9-32336C9EC36E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Diagram 5" descr=""/>
          <p:cNvPicPr/>
          <p:nvPr/>
        </p:nvPicPr>
        <p:blipFill>
          <a:blip r:embed="rId1"/>
          <a:stretch/>
        </p:blipFill>
        <p:spPr>
          <a:xfrm>
            <a:off x="353880" y="208080"/>
            <a:ext cx="6107400" cy="4078080"/>
          </a:xfrm>
          <a:prstGeom prst="rect">
            <a:avLst/>
          </a:prstGeom>
          <a:ln w="0">
            <a:noFill/>
          </a:ln>
        </p:spPr>
      </p:pic>
      <p:sp>
        <p:nvSpPr>
          <p:cNvPr id="152" name="TextBox 6"/>
          <p:cNvSpPr/>
          <p:nvPr/>
        </p:nvSpPr>
        <p:spPr>
          <a:xfrm>
            <a:off x="3214800" y="2786040"/>
            <a:ext cx="578628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typical example is that of</a:t>
            </a:r>
            <a:r>
              <a:rPr b="1" lang="sr-Latn-R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child who has fallen from a bicycle and was unconscious only momentarily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few hours or a day later headache of increasing</a:t>
            </a:r>
            <a:r>
              <a:rPr b="1" lang="sr-Latn-R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verity develops, with vomiting, drowsiness, confusion, aphasia,</a:t>
            </a:r>
            <a:r>
              <a:rPr b="1" lang="sr-Latn-R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izures</a:t>
            </a:r>
            <a:r>
              <a:rPr b="1" lang="sr-Latn-R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hemiparesis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pulse is often slow (below 60 beats per</a:t>
            </a:r>
            <a:r>
              <a:rPr b="1" lang="sr-Latn-R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inute) and bounding, with a concomitant rise in systolic bloo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essure (Cushing effect). The pupil ma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late on the side of th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ematoma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CT</a:t>
            </a: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can reveals a lens-shaped clot with a smooth inner margin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visualization of a fracture line across</a:t>
            </a: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groove of the middle meningeal artery and knowledge of which</a:t>
            </a: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ide of the head was struck (the clot is usually on that side) are of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id in diagnosis and lateralization of the les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5" descr="epiduraln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57800" y="-285840"/>
            <a:ext cx="45370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Calibri"/>
              </a:rPr>
              <a:t>thera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6840" y="1934640"/>
            <a:ext cx="32576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f the clot is no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moved surgically, comes at the end of a comatose period and 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ue to respiratory arre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surgical procedure craniotomy, drainage of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hematoma, and identification and ligation of the bleeding vesse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5" descr="epiduralni_hemato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71960" y="1785960"/>
            <a:ext cx="489600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cute and Chronic Subdural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Hematom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Venous slow bleeding between dura and arachno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chronic subdural hematoma becomes gradually encyst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y fibrous membranes (pseudomembranes) that grow from th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ur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In </a:t>
            </a: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acute</a:t>
            </a:r>
            <a:r>
              <a:rPr b="1" i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subdural hematoma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, there may</a:t>
            </a:r>
            <a:r>
              <a:rPr b="0" i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e a brief lucid interval between the blow to the head and the adv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f coma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, more often, the patient is comatose from the time 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injury and the coma deepens progressively. Frequently the acute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dural hematoma is combined with epidural hemorrhage, cerebral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tusion, or lacera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400E6-C107-4731-9344-A6D2F909D342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772DB-9531-4F3D-96A9-670B1739D596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Content Placeholder 5" descr=""/>
          <p:cNvPicPr/>
          <p:nvPr/>
        </p:nvPicPr>
        <p:blipFill>
          <a:blip r:embed="rId1"/>
          <a:stretch/>
        </p:blipFill>
        <p:spPr>
          <a:xfrm>
            <a:off x="615960" y="993600"/>
            <a:ext cx="7862760" cy="5108760"/>
          </a:xfrm>
          <a:prstGeom prst="rect">
            <a:avLst/>
          </a:prstGeom>
          <a:ln w="0">
            <a:noFill/>
          </a:ln>
        </p:spPr>
      </p:pic>
      <p:sp>
        <p:nvSpPr>
          <p:cNvPr id="16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55E71-62C6-4A4A-9ECF-682D82E03898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404B3-B269-41C2-A02E-BE5F2F4180F8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dural hematom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934640"/>
            <a:ext cx="34718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e chronic subdural hematoma becomes gradually encyste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y fibrous membranes (pseudomembranes) that grow from th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ura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Why somewhat less than one-half of all subdural hematomas</a:t>
            </a:r>
            <a:r>
              <a:rPr b="0" lang="sr-Latn-R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remain solid and nonenlarging and the remainder liquefy and then</a:t>
            </a:r>
            <a:r>
              <a:rPr b="0" lang="sr-Latn-R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large is not know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5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ggest that the volume of the original clot is a critica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actor: the larger its initial size, the more likely it will be to enlarge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n inflammatory reaction, triggered by the breakdown products of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lood elements in the clot, appears to be an additional stimulus f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rowth as well as for neomembrane formation and its vasculariz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5429160" y="1428840"/>
            <a:ext cx="3357720" cy="37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ANIOCEREBRAL TRAUM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classified 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AF8A4-E7AC-405F-A23B-6FE67C56E830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22B65-8A80-4C23-BE26-80FB25A2614F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Diagram 5" descr=""/>
          <p:cNvPicPr/>
          <p:nvPr/>
        </p:nvPicPr>
        <p:blipFill>
          <a:blip r:embed="rId1"/>
          <a:stretch/>
        </p:blipFill>
        <p:spPr>
          <a:xfrm>
            <a:off x="1504800" y="1816200"/>
            <a:ext cx="613908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Calibri"/>
              </a:rPr>
              <a:t>thera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934640"/>
            <a:ext cx="34718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 most cases of acute hematoma,it is sufficient to place burr holes and evacuate the clotbefore deep coma has develope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eatment of larger hematomas,particularly after several hours have passed and the blood has clotted,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sists of wide craniotomy to permit control of the blee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d removal of the clo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5" descr="image00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90920" y="1500120"/>
            <a:ext cx="475308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cute Brain Swelling in Childr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6840" y="1934640"/>
            <a:ext cx="29718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is condition is seen in the first hours after injury and may prove</a:t>
            </a:r>
            <a:r>
              <a:rPr b="0" lang="sr-Latn-R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rapidly fatal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e CT scan shows enlargement of both hemisphere</a:t>
            </a:r>
            <a:r>
              <a:rPr b="0" lang="sr-Latn-R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compression of the basal cisterns and ventricles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ere is usually</a:t>
            </a:r>
            <a:r>
              <a:rPr b="0" lang="sr-Latn-R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papilledema in the early stages, during which the child</a:t>
            </a:r>
            <a:r>
              <a:rPr b="0" lang="sr-Latn-R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yperventilates, vomits, and shows extensor posturing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e assumption</a:t>
            </a:r>
            <a:r>
              <a:rPr b="0" lang="sr-Latn-R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as been that this represents a loss of regulation of cerebral</a:t>
            </a:r>
            <a:r>
              <a:rPr b="0" lang="sr-Latn-R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lood flow and a massive increase in the blood volume ofthe brain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5" descr="chronicky_subduralni_hematom"/>
          <p:cNvPicPr/>
          <p:nvPr/>
        </p:nvPicPr>
        <p:blipFill>
          <a:blip r:embed="rId1"/>
          <a:stretch/>
        </p:blipFill>
        <p:spPr>
          <a:xfrm>
            <a:off x="3429000" y="1643040"/>
            <a:ext cx="53276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umatic brain involvement of herni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apment of parts of the brain in the openings of the dura or b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ubfal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Through hiatus tento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Through the foramen occipitale magn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41D9-FD37-4E6F-B60A-F073E2C32372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88CC6-2F7C-4A1D-A709-B10E1546AF5E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Content Placeholder 5" descr=""/>
          <p:cNvPicPr/>
          <p:nvPr/>
        </p:nvPicPr>
        <p:blipFill>
          <a:blip r:embed="rId1"/>
          <a:stretch/>
        </p:blipFill>
        <p:spPr>
          <a:xfrm>
            <a:off x="646200" y="615960"/>
            <a:ext cx="7851600" cy="2316240"/>
          </a:xfrm>
          <a:prstGeom prst="rect">
            <a:avLst/>
          </a:prstGeom>
          <a:ln w="0">
            <a:noFill/>
          </a:ln>
        </p:spPr>
      </p:pic>
      <p:sp>
        <p:nvSpPr>
          <p:cNvPr id="18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3F4B6-3779-4E0F-A3F4-ABA81B12EAB8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B181C-7D8B-47E4-B07E-0A8634BACA3D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Diagram 6" descr=""/>
          <p:cNvPicPr/>
          <p:nvPr/>
        </p:nvPicPr>
        <p:blipFill>
          <a:blip r:embed="rId2"/>
          <a:stretch/>
        </p:blipFill>
        <p:spPr>
          <a:xfrm>
            <a:off x="281160" y="2206800"/>
            <a:ext cx="8442000" cy="3260520"/>
          </a:xfrm>
          <a:prstGeom prst="rect">
            <a:avLst/>
          </a:prstGeom>
          <a:ln w="0">
            <a:noFill/>
          </a:ln>
        </p:spPr>
      </p:pic>
      <p:pic>
        <p:nvPicPr>
          <p:cNvPr id="184" name="Diagram 7" descr=""/>
          <p:cNvPicPr/>
          <p:nvPr/>
        </p:nvPicPr>
        <p:blipFill>
          <a:blip r:embed="rId3"/>
          <a:stretch/>
        </p:blipFill>
        <p:spPr>
          <a:xfrm>
            <a:off x="493560" y="4780080"/>
            <a:ext cx="8156880" cy="17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250px-Brain_herniation_types-2"/>
          <p:cNvPicPr/>
          <p:nvPr/>
        </p:nvPicPr>
        <p:blipFill>
          <a:blip r:embed="rId2"/>
          <a:stretch/>
        </p:blipFill>
        <p:spPr>
          <a:xfrm>
            <a:off x="1619280" y="1268280"/>
            <a:ext cx="54007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120px-Subfalcine-herniation-001"/>
          <p:cNvPicPr/>
          <p:nvPr/>
        </p:nvPicPr>
        <p:blipFill>
          <a:blip r:embed="rId2"/>
          <a:stretch/>
        </p:blipFill>
        <p:spPr>
          <a:xfrm>
            <a:off x="1692360" y="981000"/>
            <a:ext cx="54720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Brain hernia"/>
          <p:cNvPicPr/>
          <p:nvPr/>
        </p:nvPicPr>
        <p:blipFill>
          <a:blip r:embed="rId2"/>
          <a:stretch/>
        </p:blipFill>
        <p:spPr>
          <a:xfrm>
            <a:off x="1547640" y="1341360"/>
            <a:ext cx="6264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rap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1285560"/>
            <a:ext cx="77724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the same time resuscitation, data collection, examination of the pati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ist 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duration of loss of conscious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duration of post-traumatic anterograde amnes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cause of inju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present headaches and vom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43B28-26E3-4A51-AF19-AA398432C243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B5395-E1D0-475B-80A7-5878221BB8B4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rap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1214280"/>
            <a:ext cx="77724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ise your head 15 to 30 degr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rrect hypoxia - endotracheal intub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ypotension-Nacl, Ringer, blood transfu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lt Mannitol 20% every 2-6 ho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ministration of steroi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dation and anticonvulsa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phylaxis of deep vein thrombosis and stomach ulc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ministration of antibiot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ng periods of observ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B25CC-2F97-490D-B5A1-0410CAF1723B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2A9E8-225B-4013-9FAB-2F43679AEE98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8584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Calibri"/>
              </a:rPr>
              <a:t>Glasgow Coma Scale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57120" y="13568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Total score is used for serial assessment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rognosi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YES OP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ver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pain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verbal stimuli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ontaneously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EST VERBAL RESPON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respons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omprehensible sounds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appropriate words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oriented and converses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iented and converses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EST MOTOR RESPON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respons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ension (decerebrate rigidity)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exion abnormal (decorticate rigidity)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exion withdrawal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lizes pain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eys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otal 3–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B901E-1608-4971-81C3-74158D183794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0531D-2335-4210-86A6-F001EDFEE59D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Content Placeholder 5" descr=""/>
          <p:cNvPicPr/>
          <p:nvPr/>
        </p:nvPicPr>
        <p:blipFill>
          <a:blip r:embed="rId1"/>
          <a:stretch/>
        </p:blipFill>
        <p:spPr>
          <a:xfrm>
            <a:off x="665280" y="689040"/>
            <a:ext cx="8229600" cy="5248080"/>
          </a:xfrm>
          <a:prstGeom prst="rect">
            <a:avLst/>
          </a:prstGeom>
          <a:ln w="0">
            <a:noFill/>
          </a:ln>
        </p:spPr>
      </p:pic>
      <p:sp>
        <p:nvSpPr>
          <p:cNvPr id="5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5BD96-3431-4E89-8AF5-252EC11EEDCD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84E94-C7AA-4578-9E3C-A23E762D5121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Content Placeholder 5" descr=""/>
          <p:cNvPicPr/>
          <p:nvPr/>
        </p:nvPicPr>
        <p:blipFill>
          <a:blip r:embed="rId1"/>
          <a:stretch/>
        </p:blipFill>
        <p:spPr>
          <a:xfrm>
            <a:off x="-298440" y="311040"/>
            <a:ext cx="9448920" cy="5791320"/>
          </a:xfrm>
          <a:prstGeom prst="rect">
            <a:avLst/>
          </a:prstGeom>
          <a:ln w="0">
            <a:noFill/>
          </a:ln>
        </p:spPr>
      </p:pic>
      <p:sp>
        <p:nvSpPr>
          <p:cNvPr id="20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5C806-BE04-4FAB-BF5F-5DFA06A76AF1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A888B-4EF4-4F04-AF7C-33F865861BA0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EQUELAE OF HEAD INJ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800240" y="1981080"/>
            <a:ext cx="4343400" cy="4114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maj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post-traumatic dement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post-traumatic epileps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Korsakoff's syndr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. character cha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7C1B7-1A13-4EE4-8B86-CD21F346118C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7489B-FCA5-4FF9-805C-5BBCE66A436E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228600" y="2057400"/>
            <a:ext cx="4267080" cy="2494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</a:rPr>
              <a:t>min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st-traumatic headach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urosis-posttraumati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jective post-traumatic syndro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nsequences of craniocerebral injur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Fat Embolism With fractures of large bones, there may be, af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4 to 72 h, an acute onset of pulmonary symptoms (dyspnea and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yperpnea) followed by coma with or without focal signs or seizures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equence is due to systemic fat embolism, first of the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ungs and then of the bra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6E8F-B6AC-47D1-8BE0-A03D59D88250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FA771-1613-4BF5-98DC-D63F571E9ACF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osttraumatic Epileps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pilepsy is the most common delayed</a:t>
            </a:r>
            <a:r>
              <a:rPr b="1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quela of craniocerebral trauma, with an overall incidence of ab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 percent in patients with closed head injuries and 50 percent in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ose who had sustained a compound skull fra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asis is nearly always a contusion or laceration of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ortex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5A9AF-1267-4892-93B2-667F61055CBF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3DEBF-63DA-429D-A860-52726715AA88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357120" y="5357880"/>
            <a:ext cx="4191120" cy="1381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arly epileps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% within the first week-good prognos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4724280" y="5143680"/>
            <a:ext cx="4419720" cy="15721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te-onset epileps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-6 months after the injur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ildre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tack type: focal or generaliz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Treatment and Prophylaxis Usually the seizures can be controlled</a:t>
            </a:r>
            <a:r>
              <a:rPr b="1" i="1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a single anticonvulsant med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se of anticonvulsant drugs to prevent the first seizure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subsequent epilepsy has its proponents and oppon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8F391-B337-4E23-A036-E1EAE5D3E5A1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EF276-584D-462D-B962-81C403CEA3AA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st-traumatic neur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headac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ti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otionally uns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tention deficit, fatigue, intoleran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xiety, depre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lasts months and yea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rely in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F5590-D6DD-4D9F-AD94-59E8489DF54E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B51BC-BC20-41EC-9C37-7174BDCB1ACB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Calibri"/>
              </a:rPr>
              <a:t>Clasiffication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of trauma according to localization of the proces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Content Placeholder 5" descr=""/>
          <p:cNvPicPr/>
          <p:nvPr/>
        </p:nvPicPr>
        <p:blipFill>
          <a:blip r:embed="rId1"/>
          <a:stretch/>
        </p:blipFill>
        <p:spPr>
          <a:xfrm>
            <a:off x="669960" y="1420920"/>
            <a:ext cx="7808760" cy="4681440"/>
          </a:xfrm>
          <a:prstGeom prst="rect">
            <a:avLst/>
          </a:prstGeom>
          <a:ln w="0">
            <a:noFill/>
          </a:ln>
        </p:spPr>
      </p:pic>
      <p:sp>
        <p:nvSpPr>
          <p:cNvPr id="6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D30F9-9715-4057-9F39-60883BD91E22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38C95-CAE6-41AC-B7B9-5BD8222B1BC4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 the place of mechanical force - a sudden increase in pressure = coup lesion at the diametrically opposite end - negative pressure = contracoup le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ANd9GcReepkSznk4MSN6GRhP9EV8SIimKUyd2mmUNrb7BQukM5MhPEHZmg"/>
          <p:cNvPicPr/>
          <p:nvPr/>
        </p:nvPicPr>
        <p:blipFill>
          <a:blip r:embed="rId2"/>
          <a:stretch/>
        </p:blipFill>
        <p:spPr>
          <a:xfrm>
            <a:off x="1763640" y="2205000"/>
            <a:ext cx="43927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Content Placeholder 7" descr=""/>
          <p:cNvPicPr/>
          <p:nvPr/>
        </p:nvPicPr>
        <p:blipFill>
          <a:blip r:embed="rId1"/>
          <a:stretch/>
        </p:blipFill>
        <p:spPr>
          <a:xfrm>
            <a:off x="665280" y="890640"/>
            <a:ext cx="7819920" cy="5241960"/>
          </a:xfrm>
          <a:prstGeom prst="rect">
            <a:avLst/>
          </a:prstGeom>
          <a:ln w="0">
            <a:noFill/>
          </a:ln>
        </p:spPr>
      </p:pic>
      <p:sp>
        <p:nvSpPr>
          <p:cNvPr id="7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F94A5-6B4E-4EB1-B395-D60FF7F6F5A1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B4C9B-8C2B-440A-B16D-0774DBA05563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kull fra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inear 80% temporal and parietal b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mpressive 20%, usually open, with bone pressing into brain tiss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mminutive, crushed into numerous frag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035D7-FA54-4E59-8040-64EB61FFE64F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744D8-60BF-41D3-BAB6-48EBFB911874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10"/>
          <p:cNvSpPr/>
          <p:nvPr/>
        </p:nvSpPr>
        <p:spPr>
          <a:xfrm>
            <a:off x="87480" y="46080"/>
            <a:ext cx="152388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kull base fracture fracture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5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844280"/>
            <a:ext cx="345456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Anterior skull base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-anosmia, rhinorrhea, glasses sign, "raccoon eyes"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ubconjunctival haemorrhag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Fracture of the petrous temporal bone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- bleeding from the ear, otorrhea, hearing loss and hematoma above the mastoid part (24-48h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Fracture of the Turkish saddle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-damage to the pituitary gland-diabetes insipidus, impotence, amenorrhe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6E5D3-83BD-489C-B8B0-5B6CD30303E4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A506B-8F16-478F-BA9A-6DCDD90C3870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8" descr="crane_mediu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3640" y="2276640"/>
            <a:ext cx="3888000" cy="410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ANd9GcTR-z9_Pt3jmv1y9SVa4__ZHE1mSBbpVucTJ3O2vqfQOVJDXhKOaQ"/>
          <p:cNvPicPr/>
          <p:nvPr/>
        </p:nvPicPr>
        <p:blipFill>
          <a:blip r:embed="rId3"/>
          <a:stretch/>
        </p:blipFill>
        <p:spPr>
          <a:xfrm>
            <a:off x="4429080" y="1785960"/>
            <a:ext cx="114300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iki</dc:creator>
  <dc:description/>
  <dc:language>en-US</dc:language>
  <cp:lastModifiedBy>Korisnik</cp:lastModifiedBy>
  <dcterms:modified xsi:type="dcterms:W3CDTF">2024-02-22T06:19:04Z</dcterms:modified>
  <cp:revision>140</cp:revision>
  <dc:subject/>
  <dc:title>PowerPoint Presentation</dc:title>
</cp:coreProperties>
</file>